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067-F797-471E-B526-93D09C8A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C3E4-B68F-48A0-88B8-31ED8D6C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D7F-F74A-484F-B42A-57554FA7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112D-5C8A-4042-B6BE-E9C7046D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0E7-13A3-4EE8-82B1-0AD066A0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DD6-F815-4A03-8F7F-89576415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453-CC64-4157-9167-B3D2E0AB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8D5-05D3-4F27-B6AD-D7CA2320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D9A-E70D-4650-823C-9E90F785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C9D-C94F-4F86-AE8B-F7F52E06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540-82A5-49BA-B13A-432218EC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BEB-7D5F-4055-9BAD-A608FF37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5FF3-C350-4743-B1AB-CC023C7C6C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7129440" cy="6819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19640" y="3141720"/>
            <a:ext cx="1247760" cy="1439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F:\it\2 етап\Їжачок\морозиво Хрустик.jpg"/>
          <p:cNvPicPr/>
          <p:nvPr/>
        </p:nvPicPr>
        <p:blipFill>
          <a:blip r:embed="rId3"/>
          <a:srcRect l="17059" t="2017" r="19458" b="5013"/>
          <a:stretch/>
        </p:blipFill>
        <p:spPr>
          <a:xfrm rot="21313800">
            <a:off x="3174840" y="2850840"/>
            <a:ext cx="4604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0:22:38Z</dcterms:created>
  <dc:creator>viktoria</dc:creator>
  <dc:description/>
  <dc:language>en-US</dc:language>
  <cp:lastModifiedBy>inst</cp:lastModifiedBy>
  <dcterms:modified xsi:type="dcterms:W3CDTF">2012-11-27T13:09:44Z</dcterms:modified>
  <cp:revision>4</cp:revision>
  <dc:subject/>
  <dc:title>Слайд 1</dc:title>
</cp:coreProperties>
</file>