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C3F-1D61-4D3E-A938-83E55CE5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3EAE-E9BE-4BE4-B276-377FB417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BAF-449D-49BF-A1C9-860A6717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7FA-5CA2-4F6F-AA7D-E377AAB7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6F40-39FE-4B30-9664-3DA8F760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680C-9DC3-4E69-A01B-5513F6E2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1191-DF6C-4E0D-A618-244977A8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ADC1-51F8-42FE-914F-18971F2F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CCC4-CD71-4509-8FEA-ECEBB6BC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4205-3303-4562-9DA9-9F56CE9F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7D5F-87C5-4E5B-B390-AC7A6BCE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E9E-C7E5-4808-BE73-5DEAE2BA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228E-B415-4749-ADB3-5C30620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A95A-757C-49DE-B891-62C13465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23B9-F6B2-429B-8CDA-95C3727C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9F9C-EF78-46D1-B283-AD868E73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2BF3-0577-47A9-92F4-73B5A6B6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890-A5C0-4072-B13E-1AB102A6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EBD-9875-4B1A-9564-C259B22D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868-7685-4D70-9594-45767904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E1C-0EDF-413C-AAFC-E0C7781A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9E4-30A8-405B-824E-7C36080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9F1-914C-4F48-8972-21D37702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929-90FF-4F56-874C-F05AC433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585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0259-F131-4214-AEE7-32A2C91E41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4f4f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5A28-E4FE-44E7-83B5-3D4E720023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d1d1df"/>
                </a:solidFill>
                <a:latin typeface="Tahoma"/>
              </a:rPr>
              <a:t>Правила пошуку даних в Інтернеті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d1d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d1d1df"/>
                </a:solidFill>
                <a:latin typeface="Tahoma"/>
              </a:rPr>
              <a:t>Для пошуку інформації в програмах-браузерах передбачено рядок пошуку. </a:t>
            </a:r>
            <a:br>
              <a:rPr sz="3200"/>
            </a:br>
            <a:r>
              <a:rPr b="0" lang="ru-RU" sz="3200" spc="-1" strike="noStrike">
                <a:solidFill>
                  <a:srgbClr val="d1d1df"/>
                </a:solidFill>
                <a:latin typeface="Tahoma"/>
              </a:rPr>
              <a:t>У нього вводять текст, за яким відбувається пошук веб-сторінок з потрібною інформацією.</a:t>
            </a:r>
            <a:endParaRPr b="0" lang="en-US" sz="32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856908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d1df"/>
                </a:solidFill>
                <a:latin typeface="Tahoma"/>
              </a:rPr>
              <a:t>Приклад виконання пошуку за запитом українські народні казки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1930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d1df"/>
                </a:solidFill>
                <a:latin typeface="Tahoma"/>
              </a:rPr>
              <a:t>Розгляньмо результати ще двох запитів. Як ти вважаєш, який з них сформульовано найточніше?</a:t>
            </a:r>
            <a:endParaRPr b="0" lang="en-US" sz="36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9850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4880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d1df"/>
                </a:solidFill>
                <a:latin typeface="Tahoma"/>
              </a:rPr>
              <a:t>Якщо потрібно знайти дані, які мають точно збігатися зі словами запиту, то ключові слова беруть у лапки. Наприклад, знайдемо текст вірша з таким рядком «Де є в світі кращі гори». Оформлення запиту і його результат виглядатимуть так:</a:t>
            </a:r>
            <a:endParaRPr b="0" lang="en-US" sz="2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6120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1T12:11:40Z</dcterms:created>
  <dc:creator>марян</dc:creator>
  <dc:description/>
  <dc:language>en-US</dc:language>
  <cp:lastModifiedBy>марян</cp:lastModifiedBy>
  <dcterms:modified xsi:type="dcterms:W3CDTF">2014-06-21T12:24:02Z</dcterms:modified>
  <cp:revision>2</cp:revision>
  <dc:subject/>
  <dc:title>Правила пошуку даних в Інтернеті</dc:title>
</cp:coreProperties>
</file>