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0BE7-94E0-4F94-B43B-C693D1BB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EC98-FFB0-4740-9E2C-CD6FEC36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88C1-C55F-4994-8E5A-93B2F3723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14D3-5B0D-4CC2-A6E1-348EC1196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ED7A-1C51-4B34-94AC-FE4A61E27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E68A-6CB7-472A-BD55-65BAF176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F34C-38B4-4219-B122-AAB050DD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1C85-3721-4DC9-8641-9FF97EF5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324A-B99D-4F75-88AD-51D9DE5E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393C-064E-401C-843F-B2C46E43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292C-3998-4218-A990-8F381C4D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23FD-7B46-49F9-AFCF-7CEBE932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37DC-A0DB-4FE8-8D64-1EF38DDD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5C06-52C7-469C-B3A4-F4B12A5D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9D95-5C59-4CE6-B716-E064C40B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2B3D-379E-4296-B683-1533AFD3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1CE1-BA3C-4D55-A570-4596C0F5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EF19-5C91-41B1-9D90-3E9E99ED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6AD1-636F-4186-BA71-09299B66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356B-0411-4337-9527-DCB4FFD9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7888-84B3-4312-AE08-3DB34E2B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24B9-7EDA-4C9D-BAF7-D1975594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6AE8-7808-4D3C-9D0E-E39BA6EE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D590-54B1-47D0-8B06-B8987574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B91E-9B59-4545-A273-8978342767D4}" type="slidenum">
              <a:rPr b="0" lang="uk-UA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E223-45CF-4D6E-9D26-EAA2910EF43D}" type="slidenum">
              <a:rPr b="0" lang="uk-UA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7d47d"/>
                </a:solidFill>
                <a:latin typeface="Arial"/>
              </a:rPr>
              <a:t>БЕЗПЕКА В ІНТЕРНЕТІ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788000" y="1773360"/>
            <a:ext cx="2496960" cy="2346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11280" y="3141720"/>
            <a:ext cx="243360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7d47d"/>
                </a:solidFill>
                <a:uFillTx/>
                <a:latin typeface="Arial"/>
              </a:rPr>
              <a:t>ПРАВИЛА БЕЗПЕКИ В ІНТЕРНЕТІ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Ніколи не давайте приватної інформації про себ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Якщо хтось говорить вам, надсилає вам, або ви самі віднайшли у мережі щось, що бентежить вас, не намагайтеся розібратися в цьому самостійно. Зверніться до батьків або вчителів вони знають, що треба робит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Зустрічі у реальному житті із знайомими по Інтернет-спілкуванню не є дуже гарною ідеєю, оскільки люди можуть бути дуже різними у електронному спілкуванні і у реальному житті </a:t>
            </a: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Не відкривайте листи електронної пошти, файли або Web-сторінки, отримані від людей, яких ви не знаєте або не довіряєте. 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Нікому не давайте свій пароль, за виключенням дорослих вашої родин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 </a:t>
            </a: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Завжди дотримуйтесь сімейних правил Інтернет-безпеки: вони розроблені для того, щоб ви </a:t>
            </a: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відчували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себе комфортно і безпечно у мережі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Завжди будьте ввічливими у електронному листуванні, і ваші кореспонденти будуть ввічливими з вами.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63520" y="404280"/>
            <a:ext cx="73864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Не надсилайте у листі інформації великого обсягу (картинки, фотографії тощо) без попередньої домовленості з вашим співрозмовником. 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Завжди поводьтеся у мережі так, як би ви хотіли, щоб поводилися з вами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843280" y="3789360"/>
            <a:ext cx="2305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1T09:57:59Z</dcterms:created>
  <dc:creator>марян</dc:creator>
  <dc:description/>
  <dc:language>en-US</dc:language>
  <cp:lastModifiedBy>марян</cp:lastModifiedBy>
  <dcterms:modified xsi:type="dcterms:W3CDTF">2014-06-21T10:17:42Z</dcterms:modified>
  <cp:revision>2</cp:revision>
  <dc:subject/>
  <dc:title>Слайд 1</dc:title>
</cp:coreProperties>
</file>