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5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C1E-39D8-4E9E-ADE1-535BBB62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723-6910-407F-AFB5-E428B9E7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584-6701-468E-AA99-6FFC8EF3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0F7-6A9D-4336-BD24-1EC07518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632-D374-4018-829F-C42300D5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DF0-D196-4189-A40E-1EDC0E5A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A5B-FF8F-403D-94F6-C271F124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A3E-0BBA-4DDF-BD26-3526A188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191-F7F0-440D-9A70-DCD0B2C4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CBA-5194-45EA-8A4F-181F8360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583E-900F-4802-98C5-D5B38C55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D07-E295-462F-B656-71268400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4b3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5A8B-8376-45F3-B217-6DBF2D416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3182760" y="2846520"/>
            <a:ext cx="2776680" cy="993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7524720" y="533520"/>
            <a:ext cx="1284480" cy="4856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2" descr=""/>
          <p:cNvPicPr/>
          <p:nvPr/>
        </p:nvPicPr>
        <p:blipFill>
          <a:blip r:embed="rId3"/>
          <a:stretch/>
        </p:blipFill>
        <p:spPr>
          <a:xfrm>
            <a:off x="0" y="262080"/>
            <a:ext cx="9144000" cy="2577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2556000" y="5202360"/>
            <a:ext cx="1011240" cy="121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1011240" cy="1219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101124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4"/>
          <a:stretch/>
        </p:blipFill>
        <p:spPr>
          <a:xfrm>
            <a:off x="395280" y="2867040"/>
            <a:ext cx="101124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5"/>
          <a:stretch/>
        </p:blipFill>
        <p:spPr>
          <a:xfrm>
            <a:off x="468360" y="5202360"/>
            <a:ext cx="1011240" cy="121896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1" descr=""/>
          <p:cNvPicPr/>
          <p:nvPr/>
        </p:nvPicPr>
        <p:blipFill>
          <a:blip r:embed="rId6"/>
          <a:stretch/>
        </p:blipFill>
        <p:spPr>
          <a:xfrm>
            <a:off x="6748560" y="92160"/>
            <a:ext cx="7327800" cy="84232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2" descr="C:\Users\graffiti\Pictures\images (7).jpg"/>
          <p:cNvPicPr/>
          <p:nvPr/>
        </p:nvPicPr>
        <p:blipFill>
          <a:blip r:embed="rId7"/>
          <a:stretch/>
        </p:blipFill>
        <p:spPr>
          <a:xfrm>
            <a:off x="3062160" y="2205000"/>
            <a:ext cx="3019680" cy="1514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39741E-006 L -0.00798 -0.70391 E">
                                      <p:cBhvr>
                                        <p:cTn id="24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644E-006 L 0.22048 -0.36363 E">
                                      <p:cBhvr>
                                        <p:cTn id="24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644E-006 L 0.24409 0.34976 E">
                                      <p:cBhvr>
                                        <p:cTn id="25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16146E-006 L -0.34757 0.00324 E">
                                      <p:cBhvr>
                                        <p:cTn id="25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250920" y="4724280"/>
            <a:ext cx="1006560" cy="121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1405080" y="689040"/>
            <a:ext cx="1006200" cy="1218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2411280" y="4716360"/>
            <a:ext cx="1006560" cy="121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4"/>
          <a:stretch/>
        </p:blipFill>
        <p:spPr>
          <a:xfrm>
            <a:off x="892080" y="2687760"/>
            <a:ext cx="1006560" cy="121896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1" descr=""/>
          <p:cNvPicPr/>
          <p:nvPr/>
        </p:nvPicPr>
        <p:blipFill>
          <a:blip r:embed="rId5"/>
          <a:stretch/>
        </p:blipFill>
        <p:spPr>
          <a:xfrm>
            <a:off x="6784920" y="304920"/>
            <a:ext cx="7753320" cy="84312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1" descr="C:\Users\graffiti\Pictures\images (5).jpg"/>
          <p:cNvPicPr/>
          <p:nvPr/>
        </p:nvPicPr>
        <p:blipFill>
          <a:blip r:embed="rId6"/>
          <a:stretch/>
        </p:blipFill>
        <p:spPr>
          <a:xfrm>
            <a:off x="2897280" y="184464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97085E-006 L 0.12621 -0.59241 E">
                                      <p:cBhvr>
                                        <p:cTn id="267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044 L 0.11806 0.59981 E">
                                      <p:cBhvr>
                                        <p:cTn id="27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8885E-006 L 0.1191 -0.00185 E">
                                      <p:cBhvr>
                                        <p:cTn id="27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9598E-006 L -0.3434 0.00324 E">
                                      <p:cBhvr>
                                        <p:cTn id="27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3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1" descr=""/>
          <p:cNvPicPr/>
          <p:nvPr/>
        </p:nvPicPr>
        <p:blipFill>
          <a:blip r:embed="rId1"/>
          <a:stretch/>
        </p:blipFill>
        <p:spPr>
          <a:xfrm>
            <a:off x="-1401840" y="920880"/>
            <a:ext cx="11814120" cy="5662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48105111_1251531744_20"/>
          <p:cNvPicPr/>
          <p:nvPr/>
        </p:nvPicPr>
        <p:blipFill>
          <a:blip r:embed="rId1"/>
          <a:stretch/>
        </p:blipFill>
        <p:spPr>
          <a:xfrm>
            <a:off x="395280" y="1268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1" descr=""/>
          <p:cNvPicPr/>
          <p:nvPr/>
        </p:nvPicPr>
        <p:blipFill>
          <a:blip r:embed="rId2"/>
          <a:stretch/>
        </p:blipFill>
        <p:spPr>
          <a:xfrm>
            <a:off x="396720" y="0"/>
            <a:ext cx="8455320" cy="933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754 -0.11124 C 0.66771 -0.11124 0.87136 0.06846 0.87136 0.28932 C 0.87136 0.51018 0.66771 0.6901 0.41754 0.6901 C 0.16719 0.6901 -0.03628 0.51018 -0.03628 0.28932 C -0.03628 0.06846 0.16719 -0.11124 0.41754 -0.11124 Z">
                                      <p:cBhvr>
                                        <p:cTn id="6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754 -0.11124 C 0.66771 -0.11124 0.87136 0.05573 0.87136 0.2611 C 0.87136 0.46646 0.66771 0.63367 0.41754 0.63367 C 0.16719 0.63367 -0.03628 0.46646 -0.03628 0.2611 C -0.03628 0.05573 0.16719 -0.11124 0.41754 -0.11124 Z">
                                      <p:cBhvr>
                                        <p:cTn id="9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1_8be4c8adb9387e8b6f429009a1e021f4_209"/>
          <p:cNvPicPr/>
          <p:nvPr/>
        </p:nvPicPr>
        <p:blipFill>
          <a:blip r:embed="rId1"/>
          <a:stretch/>
        </p:blipFill>
        <p:spPr>
          <a:xfrm>
            <a:off x="324000" y="476280"/>
            <a:ext cx="1701720" cy="1743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1_8be4c8adb9387e8b6f429009a1e021f4_209"/>
          <p:cNvPicPr/>
          <p:nvPr/>
        </p:nvPicPr>
        <p:blipFill>
          <a:blip r:embed="rId2"/>
          <a:stretch/>
        </p:blipFill>
        <p:spPr>
          <a:xfrm>
            <a:off x="3276720" y="2565360"/>
            <a:ext cx="1701720" cy="174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1_8be4c8adb9387e8b6f429009a1e021f4_209"/>
          <p:cNvPicPr/>
          <p:nvPr/>
        </p:nvPicPr>
        <p:blipFill>
          <a:blip r:embed="rId3"/>
          <a:stretch/>
        </p:blipFill>
        <p:spPr>
          <a:xfrm>
            <a:off x="1187280" y="2637000"/>
            <a:ext cx="1702080" cy="1742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_8be4c8adb9387e8b6f429009a1e021f4_209"/>
          <p:cNvPicPr/>
          <p:nvPr/>
        </p:nvPicPr>
        <p:blipFill>
          <a:blip r:embed="rId4"/>
          <a:stretch/>
        </p:blipFill>
        <p:spPr>
          <a:xfrm>
            <a:off x="468360" y="4508640"/>
            <a:ext cx="1701720" cy="1742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1_8be4c8adb9387e8b6f429009a1e021f4_209"/>
          <p:cNvPicPr/>
          <p:nvPr/>
        </p:nvPicPr>
        <p:blipFill>
          <a:blip r:embed="rId5"/>
          <a:stretch/>
        </p:blipFill>
        <p:spPr>
          <a:xfrm>
            <a:off x="2124000" y="476280"/>
            <a:ext cx="1701720" cy="174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_8be4c8adb9387e8b6f429009a1e021f4_209"/>
          <p:cNvPicPr/>
          <p:nvPr/>
        </p:nvPicPr>
        <p:blipFill>
          <a:blip r:embed="rId6"/>
          <a:stretch/>
        </p:blipFill>
        <p:spPr>
          <a:xfrm>
            <a:off x="2700360" y="4437000"/>
            <a:ext cx="1701720" cy="17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1_8be4c8adb9387e8b6f429009a1e021f4_209"/>
          <p:cNvPicPr/>
          <p:nvPr/>
        </p:nvPicPr>
        <p:blipFill>
          <a:blip r:embed="rId7"/>
          <a:stretch/>
        </p:blipFill>
        <p:spPr>
          <a:xfrm>
            <a:off x="4859280" y="4437000"/>
            <a:ext cx="1701720" cy="174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1_8be4c8adb9387e8b6f429009a1e021f4_209"/>
          <p:cNvPicPr/>
          <p:nvPr/>
        </p:nvPicPr>
        <p:blipFill>
          <a:blip r:embed="rId8"/>
          <a:stretch/>
        </p:blipFill>
        <p:spPr>
          <a:xfrm>
            <a:off x="4427640" y="404640"/>
            <a:ext cx="1701720" cy="174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1_8be4c8adb9387e8b6f429009a1e021f4_209"/>
          <p:cNvPicPr/>
          <p:nvPr/>
        </p:nvPicPr>
        <p:blipFill>
          <a:blip r:embed="rId9"/>
          <a:stretch/>
        </p:blipFill>
        <p:spPr>
          <a:xfrm>
            <a:off x="7020000" y="4437000"/>
            <a:ext cx="1701720" cy="1743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1_8be4c8adb9387e8b6f429009a1e021f4_209"/>
          <p:cNvPicPr/>
          <p:nvPr/>
        </p:nvPicPr>
        <p:blipFill>
          <a:blip r:embed="rId10"/>
          <a:stretch/>
        </p:blipFill>
        <p:spPr>
          <a:xfrm>
            <a:off x="6948360" y="476280"/>
            <a:ext cx="1702080" cy="1743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1_8be4c8adb9387e8b6f429009a1e021f4_209"/>
          <p:cNvPicPr/>
          <p:nvPr/>
        </p:nvPicPr>
        <p:blipFill>
          <a:blip r:embed="rId11"/>
          <a:stretch/>
        </p:blipFill>
        <p:spPr>
          <a:xfrm>
            <a:off x="5651640" y="2565360"/>
            <a:ext cx="1701720" cy="1743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5"/>
          <p:cNvSpPr/>
          <p:nvPr/>
        </p:nvSpPr>
        <p:spPr>
          <a:xfrm>
            <a:off x="1692360" y="0"/>
            <a:ext cx="56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1" descr=""/>
          <p:cNvPicPr/>
          <p:nvPr/>
        </p:nvPicPr>
        <p:blipFill>
          <a:blip r:embed="rId12"/>
          <a:stretch/>
        </p:blipFill>
        <p:spPr>
          <a:xfrm>
            <a:off x="1805040" y="-152280"/>
            <a:ext cx="555948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evt="end">
                                        <p:tn val="26"/>
                                      </p:cond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evt="end">
                                        <p:tn val="31"/>
                                      </p:cond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6"/>
                                      </p:cond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evt="end">
                                        <p:tn val="51"/>
                                      </p:cond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evt="end">
                                        <p:tn val="56"/>
                                      </p:cond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6"/>
                                      </p:cond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1158840" cy="1158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C:\Users\graffiti\Pictures\images (2).jpg"/>
          <p:cNvPicPr/>
          <p:nvPr/>
        </p:nvPicPr>
        <p:blipFill>
          <a:blip r:embed="rId2"/>
          <a:stretch/>
        </p:blipFill>
        <p:spPr>
          <a:xfrm>
            <a:off x="7380360" y="5373720"/>
            <a:ext cx="1339920" cy="11001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" descr=""/>
          <p:cNvPicPr/>
          <p:nvPr/>
        </p:nvPicPr>
        <p:blipFill>
          <a:blip r:embed="rId3"/>
          <a:stretch/>
        </p:blipFill>
        <p:spPr>
          <a:xfrm>
            <a:off x="36360" y="-115920"/>
            <a:ext cx="9107640" cy="9334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C:\Users\graffiti\Pictures\загруженное (3).jpg"/>
          <p:cNvPicPr/>
          <p:nvPr/>
        </p:nvPicPr>
        <p:blipFill>
          <a:blip r:embed="rId4"/>
          <a:stretch/>
        </p:blipFill>
        <p:spPr>
          <a:xfrm>
            <a:off x="3059280" y="1851120"/>
            <a:ext cx="252396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8.81332E-007 L 0.75556 -0.00046 E">
                                      <p:cBhvr>
                                        <p:cTn id="8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8.81332E-007 L -0.00052 0.73398 E">
                                      <p:cBhvr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8.81332E-007 L 0.73976 0.70252 E">
                                      <p:cBhvr>
                                        <p:cTn id="8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0393 L -0.76875 0.00786 E">
                                      <p:cBhvr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2475 L 0.00313 -0.66389 E">
                                      <p:cBhvr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8" descr="C:\Users\graffiti\Pictures\images (3).jpg"/>
          <p:cNvPicPr/>
          <p:nvPr/>
        </p:nvPicPr>
        <p:blipFill>
          <a:blip r:embed="rId1"/>
          <a:stretch/>
        </p:blipFill>
        <p:spPr>
          <a:xfrm>
            <a:off x="108000" y="765000"/>
            <a:ext cx="100800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2340000" y="770040"/>
            <a:ext cx="1006560" cy="1218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3"/>
          <a:stretch/>
        </p:blipFill>
        <p:spPr>
          <a:xfrm>
            <a:off x="12600" y="2687760"/>
            <a:ext cx="1006560" cy="1218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4"/>
          <a:stretch/>
        </p:blipFill>
        <p:spPr>
          <a:xfrm>
            <a:off x="2365200" y="2766960"/>
            <a:ext cx="1006560" cy="1219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5"/>
          <a:stretch/>
        </p:blipFill>
        <p:spPr>
          <a:xfrm>
            <a:off x="12600" y="5157720"/>
            <a:ext cx="100656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3" descr="C:\Users\graffiti\Pictures\images (4).jpg"/>
          <p:cNvPicPr/>
          <p:nvPr/>
        </p:nvPicPr>
        <p:blipFill>
          <a:blip r:embed="rId6"/>
          <a:stretch/>
        </p:blipFill>
        <p:spPr>
          <a:xfrm>
            <a:off x="3492360" y="1560600"/>
            <a:ext cx="1819440" cy="25048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" descr=""/>
          <p:cNvPicPr/>
          <p:nvPr/>
        </p:nvPicPr>
        <p:blipFill>
          <a:blip r:embed="rId7"/>
          <a:stretch/>
        </p:blipFill>
        <p:spPr>
          <a:xfrm>
            <a:off x="6754680" y="212760"/>
            <a:ext cx="7302600" cy="83217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3" descr=""/>
          <p:cNvPicPr/>
          <p:nvPr/>
        </p:nvPicPr>
        <p:blipFill>
          <a:blip r:embed="rId8"/>
          <a:stretch/>
        </p:blipFill>
        <p:spPr>
          <a:xfrm>
            <a:off x="360360" y="42840"/>
            <a:ext cx="8369280" cy="70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19223E-007 L 0.25799 -0.34629 E">
                                      <p:cBhvr>
                                        <p:cTn id="107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0.01156 L 0.26181 -0.26301 E">
                                      <p:cBhvr>
                                        <p:cTn id="115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728E-006 L -0.32274 0.00231 E">
                                      <p:cBhvr>
                                        <p:cTn id="123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250920" y="4724280"/>
            <a:ext cx="1006560" cy="1219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1405080" y="689040"/>
            <a:ext cx="1006200" cy="1218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2411280" y="4716360"/>
            <a:ext cx="100656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4"/>
          <a:stretch/>
        </p:blipFill>
        <p:spPr>
          <a:xfrm>
            <a:off x="892080" y="2687760"/>
            <a:ext cx="1006560" cy="121896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" descr=""/>
          <p:cNvPicPr/>
          <p:nvPr/>
        </p:nvPicPr>
        <p:blipFill>
          <a:blip r:embed="rId5"/>
          <a:stretch/>
        </p:blipFill>
        <p:spPr>
          <a:xfrm>
            <a:off x="6784920" y="304920"/>
            <a:ext cx="7753320" cy="84312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1" descr="C:\Users\graffiti\Pictures\images (5).jpg"/>
          <p:cNvPicPr/>
          <p:nvPr/>
        </p:nvPicPr>
        <p:blipFill>
          <a:blip r:embed="rId6"/>
          <a:stretch/>
        </p:blipFill>
        <p:spPr>
          <a:xfrm>
            <a:off x="2897280" y="184464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97085E-006 L 0.12621 -0.59241 E">
                                      <p:cBhvr>
                                        <p:cTn id="12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044 L 0.11806 0.59981 E"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8885E-006 L 0.1191 -0.00185 E">
                                      <p:cBhvr>
                                        <p:cTn id="13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9598E-006 L -0.3434 0.00324 E">
                                      <p:cBhvr>
                                        <p:cTn id="141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"/>
          <p:cNvPicPr/>
          <p:nvPr/>
        </p:nvPicPr>
        <p:blipFill>
          <a:blip r:embed="rId1"/>
          <a:stretch/>
        </p:blipFill>
        <p:spPr>
          <a:xfrm>
            <a:off x="324000" y="2841480"/>
            <a:ext cx="100620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2"/>
          <a:stretch/>
        </p:blipFill>
        <p:spPr>
          <a:xfrm>
            <a:off x="2556000" y="2733840"/>
            <a:ext cx="1006200" cy="1218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2411280" y="736560"/>
            <a:ext cx="1006560" cy="1219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324000" y="765000"/>
            <a:ext cx="1006200" cy="1219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"/>
          <p:cNvPicPr/>
          <p:nvPr/>
        </p:nvPicPr>
        <p:blipFill>
          <a:blip r:embed="rId5"/>
          <a:stretch/>
        </p:blipFill>
        <p:spPr>
          <a:xfrm>
            <a:off x="324000" y="5013360"/>
            <a:ext cx="1006200" cy="121932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" descr=""/>
          <p:cNvPicPr/>
          <p:nvPr/>
        </p:nvPicPr>
        <p:blipFill>
          <a:blip r:embed="rId6"/>
          <a:stretch/>
        </p:blipFill>
        <p:spPr>
          <a:xfrm>
            <a:off x="6778800" y="-60480"/>
            <a:ext cx="7546680" cy="84232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4" descr="C:\Users\graffiti\Pictures\images (1).jpg"/>
          <p:cNvPicPr/>
          <p:nvPr/>
        </p:nvPicPr>
        <p:blipFill>
          <a:blip r:embed="rId7"/>
          <a:stretch/>
        </p:blipFill>
        <p:spPr>
          <a:xfrm>
            <a:off x="3627360" y="1781280"/>
            <a:ext cx="239076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57761E-006 L -1.38889E-006 -0.62387 E">
                                      <p:cBhvr>
                                        <p:cTn id="151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0486 L 0.23629 0.0007 E">
                                      <p:cBhvr>
                                        <p:cTn id="15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0486 L 0.00816 0.29794 E">
                                      <p:cBhvr>
                                        <p:cTn id="15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96021E-006 L -0.36267 0.00462 E">
                                      <p:cBhvr>
                                        <p:cTn id="167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"/>
          <p:cNvPicPr/>
          <p:nvPr/>
        </p:nvPicPr>
        <p:blipFill>
          <a:blip r:embed="rId1"/>
          <a:stretch/>
        </p:blipFill>
        <p:spPr>
          <a:xfrm>
            <a:off x="-136440" y="620640"/>
            <a:ext cx="1006560" cy="1219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2"/>
          <a:stretch/>
        </p:blipFill>
        <p:spPr>
          <a:xfrm>
            <a:off x="-108000" y="2924280"/>
            <a:ext cx="1006560" cy="1218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1969920" y="620640"/>
            <a:ext cx="1006560" cy="1219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4"/>
          <a:stretch/>
        </p:blipFill>
        <p:spPr>
          <a:xfrm>
            <a:off x="2160720" y="5084640"/>
            <a:ext cx="1006200" cy="121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"/>
          <p:cNvPicPr/>
          <p:nvPr/>
        </p:nvPicPr>
        <p:blipFill>
          <a:blip r:embed="rId5"/>
          <a:stretch/>
        </p:blipFill>
        <p:spPr>
          <a:xfrm>
            <a:off x="1979640" y="2924280"/>
            <a:ext cx="1006560" cy="1218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"/>
          <p:cNvPicPr/>
          <p:nvPr/>
        </p:nvPicPr>
        <p:blipFill>
          <a:blip r:embed="rId6"/>
          <a:stretch/>
        </p:blipFill>
        <p:spPr>
          <a:xfrm>
            <a:off x="0" y="5084640"/>
            <a:ext cx="1006560" cy="121932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" descr=""/>
          <p:cNvPicPr/>
          <p:nvPr/>
        </p:nvPicPr>
        <p:blipFill>
          <a:blip r:embed="rId7"/>
          <a:stretch/>
        </p:blipFill>
        <p:spPr>
          <a:xfrm>
            <a:off x="6748560" y="165240"/>
            <a:ext cx="7742160" cy="84247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5" descr="C:\Users\graffiti\Pictures\images (6).jpg"/>
          <p:cNvPicPr/>
          <p:nvPr/>
        </p:nvPicPr>
        <p:blipFill>
          <a:blip r:embed="rId8"/>
          <a:stretch/>
        </p:blipFill>
        <p:spPr>
          <a:xfrm>
            <a:off x="3348000" y="22068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13972E-006 L 0.21667 -0.30905 E">
                                      <p:cBhvr>
                                        <p:cTn id="17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78 L -0.23593 0.01156 E">
                                      <p:cBhvr>
                                        <p:cTn id="18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0.01157 L -0.00764 -0.32893 E">
                                      <p:cBhvr>
                                        <p:cTn id="185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0.00671 L 0.24549 0.00671 E">
                                      <p:cBhvr>
                                        <p:cTn id="18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11 0.0067 L 0.01632 0.66296 E">
                                      <p:cBhvr>
                                        <p:cTn id="193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4508E-006 L -0.41753 -0.00232 E">
                                      <p:cBhvr>
                                        <p:cTn id="19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2241720" y="3970440"/>
            <a:ext cx="1011240" cy="1218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2"/>
          <a:stretch/>
        </p:blipFill>
        <p:spPr>
          <a:xfrm>
            <a:off x="684360" y="3968640"/>
            <a:ext cx="1011240" cy="1219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3"/>
          <a:stretch/>
        </p:blipFill>
        <p:spPr>
          <a:xfrm>
            <a:off x="2298600" y="658800"/>
            <a:ext cx="1011240" cy="1219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4"/>
          <a:stretch/>
        </p:blipFill>
        <p:spPr>
          <a:xfrm>
            <a:off x="611280" y="587520"/>
            <a:ext cx="1011240" cy="121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/>
          <p:cNvPicPr/>
          <p:nvPr/>
        </p:nvPicPr>
        <p:blipFill>
          <a:blip r:embed="rId5"/>
          <a:stretch/>
        </p:blipFill>
        <p:spPr>
          <a:xfrm>
            <a:off x="2987640" y="5195880"/>
            <a:ext cx="1011240" cy="1219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"/>
          <p:cNvPicPr/>
          <p:nvPr/>
        </p:nvPicPr>
        <p:blipFill>
          <a:blip r:embed="rId6"/>
          <a:stretch/>
        </p:blipFill>
        <p:spPr>
          <a:xfrm>
            <a:off x="2987640" y="3970440"/>
            <a:ext cx="1011240" cy="121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"/>
          <p:cNvPicPr/>
          <p:nvPr/>
        </p:nvPicPr>
        <p:blipFill>
          <a:blip r:embed="rId7"/>
          <a:stretch/>
        </p:blipFill>
        <p:spPr>
          <a:xfrm>
            <a:off x="0" y="3968640"/>
            <a:ext cx="1011240" cy="1219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"/>
          <p:cNvPicPr/>
          <p:nvPr/>
        </p:nvPicPr>
        <p:blipFill>
          <a:blip r:embed="rId8"/>
          <a:stretch/>
        </p:blipFill>
        <p:spPr>
          <a:xfrm>
            <a:off x="0" y="5195880"/>
            <a:ext cx="1011240" cy="121932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1" descr=""/>
          <p:cNvPicPr/>
          <p:nvPr/>
        </p:nvPicPr>
        <p:blipFill>
          <a:blip r:embed="rId9"/>
          <a:stretch/>
        </p:blipFill>
        <p:spPr>
          <a:xfrm>
            <a:off x="6778800" y="23760"/>
            <a:ext cx="7718400" cy="8425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9" descr="C:\Users\graffiti\Pictures\загруженное (5).jpg"/>
          <p:cNvPicPr/>
          <p:nvPr/>
        </p:nvPicPr>
        <p:blipFill>
          <a:blip r:embed="rId10"/>
          <a:stretch/>
        </p:blipFill>
        <p:spPr>
          <a:xfrm>
            <a:off x="3306600" y="1566720"/>
            <a:ext cx="230508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19223E-007 L 2.22222E-006 -0.16794 E">
                                      <p:cBhvr>
                                        <p:cTn id="210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38793E-006 L 0.07465 -1.38793E-006 E">
                                      <p:cBhvr>
                                        <p:cTn id="21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6.91649E-007 L -0.00035 -0.49271 E">
                                      <p:cBhvr>
                                        <p:cTn id="21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8513E-006 L 0.18923 4.08513E-006 E">
                                      <p:cBhvr>
                                        <p:cTn id="22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08513E-006 L -0.00034 0.50358 E">
                                      <p:cBhvr>
                                        <p:cTn id="22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3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0023 L -0.00191 0.18876 E">
                                      <p:cBhvr>
                                        <p:cTn id="23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3139E-006 L -0.3566 0.00254 E">
                                      <p:cBhvr>
                                        <p:cTn id="23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10:41:24Z</dcterms:created>
  <dc:creator>Пользователь</dc:creator>
  <dc:description/>
  <dc:language>en-US</dc:language>
  <cp:lastModifiedBy>graffiti</cp:lastModifiedBy>
  <dcterms:modified xsi:type="dcterms:W3CDTF">2013-04-28T17:04:25Z</dcterms:modified>
  <cp:revision>52</cp:revision>
  <dc:subject/>
  <dc:title>Слайд 1</dc:title>
</cp:coreProperties>
</file>